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2AB-FB32-431E-BDF8-D0D2211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277-8FC0-40BC-9834-EC2076C6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7A6-192A-4EA1-A867-C6D389F9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20C-1A57-4A22-AF3F-ABEE3299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5EA-36F4-4B3C-9ED1-3CCBBEEF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403-7FFD-4144-B90E-992908E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92B-6806-4221-8A7D-3CDD88D3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02B-C775-491C-B9B7-503E4C9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B0B-FAB0-445B-AB89-AC4E5B6E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EA5-096D-43E3-BCA2-2F0CD357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990-6051-4F31-8421-9605BBE4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901-9FD4-4AA6-AC60-2CB3A85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A994-95DA-4996-8F8E-94B16A272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GLO XX (20): La posguerra civil españ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men Martín Gaite (1925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s atadur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60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66880" y="4191120"/>
            <a:ext cx="158292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934320" y="2209680"/>
            <a:ext cx="129672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62120" y="3886200"/>
            <a:ext cx="135864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2120" y="2057400"/>
            <a:ext cx="13460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90920" y="2590920"/>
            <a:ext cx="1523880" cy="12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934320" y="4114800"/>
            <a:ext cx="12650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724280" y="2590920"/>
            <a:ext cx="1324080" cy="121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609480"/>
            <a:ext cx="51055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ali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famosa por sus mariscos, de modo que no sorprende que haya un pulpero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pulp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 plato muy típico de Gali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ués de hervir el pulpo, se parte en trocitos y se sirve con patatas, aceite de oliva y pimentón.  Se llama, precisamente, 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ulpo a la galle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3048120" cy="25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685800"/>
            <a:ext cx="3048120" cy="221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0"/>
            <a:ext cx="5639040" cy="64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geog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nque Martín Gaite es de Salamanca, como muchos españoles veraneaba 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ali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en el pueblo de San Lorenzo de Piño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erca de Or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río Miñ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semboca en el océano Atlántico, formando parte de la frontera entre España y Portug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2210040" cy="1444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22654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553080" y="4876920"/>
            <a:ext cx="2286000" cy="16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53352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uye desde el interior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ali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pasando p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r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esa provi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2819520" cy="18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581280" y="4114800"/>
            <a:ext cx="2438640" cy="211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114800" y="1676520"/>
            <a:ext cx="1760400" cy="2209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400800" y="3124080"/>
            <a:ext cx="2293920" cy="312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781680" y="1600200"/>
            <a:ext cx="1857600" cy="13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518148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antiago de Compost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entro cultural de Galicia por ser la sede del sepulcro de Santiago, el santo patrón de España y el sitio de peregrinajes mediev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tedr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de las más importantes de Europa, sobre todo la fachada románica, llamada el “Pórtico de la Gloria.”  Santiago, también, tiene un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niversid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mpor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97180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457200"/>
            <a:ext cx="49532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taduras”, Gaite Compren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eventos no siguen un orden cronológico.  Las dos “escenas” de la primera parte ocurren después de los eventos contados en la segunda par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 aquí e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i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bía sido una niña precoz mu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gada a su pad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ien tenía altas aspiraciones para su hij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30592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fue a la universidad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 enamoró de Philippe, un pintor francé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salió en estado, tuvo que casarse sin terminar la carrera y se fue a vivir a Parí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ando nació su segundo hijo, los padres fueron a París a visitar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La visita no resultó bie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la primera “escena” el padre expresa su frustración ante la situación de Alina, y en la segunda “escena” Alina expresa la suy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19200" cy="16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76212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. Las últimas escenas de la segunda parte son escenas que siguen cronológicamente a las dos primeras escenas de la narr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bíamos dejado a Alina junto al Sena meditando y a Benjamín subiendo una colina.  Ahora vemos lo que les pasó.  Explic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7621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6. Alina va a un café y les escribe una postal a sus padres.  ¿Qué les dice?  ¿Les dice la verdad?  ¿Por qué crees que les escribe estas cosas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762120"/>
            <a:ext cx="7848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7. Herminia encuentra a su esposo después de que éste se había quedado dormido en el camp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Qué descubrimos en la conversación entre Herminia y Benjamín respecto a la relación que tienen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Qué le sigue preocupando a Benjamín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Qué actitud expresa Herminia respecto a la preocupación de su esposo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7621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abuelo Santiago había dicho que algunas ataduras son buenas, si uno las escoge para sí mis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¿Crees que la nueva atadura que ha escogido Alina es buena para ella?  ¿Crees que la autora está comunicando algo respecto a 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mposibilidad de la mujer de ser totalmente “lib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838080"/>
            <a:ext cx="8001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tín Gaite fue la primera mujer en ganar el Premio Nacional de Literatura por su nove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 cuarto de atrá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78) y el Nacional de Letras por el conjunto de su obra en 19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mujeres casi siempre forman el centro de su mundo narrativo, aunque en 1974 c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tahíl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la autora sale a la batalla feminist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4343400"/>
            <a:ext cx="1957320" cy="215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438280" y="4343400"/>
            <a:ext cx="201132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1120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men Martín Gaite (1925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6480" y="1828800"/>
            <a:ext cx="367524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368964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80880"/>
            <a:ext cx="784872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us novelas, se destaca su capacidad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rear el lenguaje coloqui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 un modo convinc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más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 comunicación verb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o falta de ella, se convierte en un discurso narrativa impor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3962160" cy="2759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3662280"/>
            <a:ext cx="3733920" cy="274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0"/>
            <a:ext cx="769644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Qué cosas haces o has hecho para complacer a tus padres u otros familiares, aunque no querías hacerlo en re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Qué presiones te crean tus padres?  Explica,  ¿crees que ellos crean estas presiones consciente o inconscientemen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743200" y="4286160"/>
            <a:ext cx="3352680" cy="217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380880"/>
            <a:ext cx="77724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¿Crees que tus padres han puesto muchas esperanzas en ti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¿Crees que es importante liberarte de tus padres?  ¿Qué has hecho tú hasta ahora para conseguir tu libertad?  ¿Conoces a alguien que se haya casado para liberarse de sus pad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05320" y="3276720"/>
            <a:ext cx="4419360" cy="316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533520"/>
            <a:ext cx="74678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¿Qué obligaciones piensas que debes tener hacia tus padres cuando seas mayor?  Por ejemplo, ¿te sentirás obligado(a) llevarlos a vivir a tu casa para cuidarlos si se enferm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2286000" cy="253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220968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105520" y="289548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754380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sociológico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países latinos, es frecuente qu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arias generaciones convivan jun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No es raro que haya tres generaciones en una misma cas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España e Italia, es muy común que los chicos y chicas que queden a vivir con sus padr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spués de empezar a trabaj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, en los paísos hay menos movilidad geográfica que en los Estados Unidos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gente suele quedarse a vivir en el pueblo o ciudad donde n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533520"/>
            <a:ext cx="685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folcló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da pueblo de España celebra l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estas de su santo patró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s fiestas muchas veces incluyen un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merí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es un tip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esta al aire libre en el camp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nde a lo larg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 varios dí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bebe, se come, se baila y uno se reúne con l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5880" y="4572000"/>
            <a:ext cx="2743200" cy="188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62920" y="914400"/>
            <a:ext cx="1752480" cy="333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457200"/>
            <a:ext cx="647676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í acuden muchos comerciantes y vendedores de muchas comidas típicas de la regió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76520" y="1925640"/>
            <a:ext cx="6019560" cy="448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5:00:41Z</dcterms:created>
  <dc:creator>Ruth Ward</dc:creator>
  <dc:description/>
  <dc:language>en-US</dc:language>
  <cp:lastModifiedBy>Ruth Ward</cp:lastModifiedBy>
  <dcterms:modified xsi:type="dcterms:W3CDTF">2006-04-14T05:10:35Z</dcterms:modified>
  <cp:revision>71</cp:revision>
  <dc:subject/>
  <dc:title>PowerPoint Presentation</dc:title>
</cp:coreProperties>
</file>